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17F-2D48-4E73-8F18-AD32034D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803-C71D-42C4-AF9B-FCFEF185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20D-C5A7-4A9E-A188-C0EF6276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4CB-57EE-47E9-AB59-666406AF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101-F8E8-4D9D-A67D-4179AAE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AFF-3B01-4937-A51A-A79F032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FDE-3980-431D-B9FB-4610F0B6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177-1B93-4F1E-B335-24B2147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7E0-D032-419A-9F44-43C20B1B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4FB-F6DF-4B9A-B27C-9F956962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096-8CCD-4D04-8738-4417DBD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39A-0CF6-474F-BEA4-79ABE0E7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7BB0-F4BE-4858-87D3-CABDB4CE8B9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9 Veď ma, svätý Hospod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ma, svätý Hospodi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úšťou sveta k výši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som slabý, ty si moc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nnou Slova, mannou Slo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ebom z neba sýť ma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ebom z neba sýť m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štáľovej vody pram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vor, prosím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 na ceste do Kanán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hnivý stĺp svieť mi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ný Vodca, mocný Vodc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boku mi stále st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boku mi stále st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Izrael cez Jord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mám brodo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úšok prej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u pomoc očak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spodine, ráč ma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tam v cieli, raz tam v cie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m ti vrúcnu vďaku,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m ti vrúcnu vďaku, č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4:06:38Z</dcterms:modified>
  <cp:revision>13</cp:revision>
  <dc:subject/>
  <dc:title>Je veľký náš Pán, on slávy je Kráľ Nech do všetkých strán  spev vrúcnych znie chvál.</dc:title>
</cp:coreProperties>
</file>